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FB4-E26D-465C-85FC-91B835E8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593-9EC5-4672-9CD5-04A2C22E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8271-0BF9-4B51-94B7-83AEB901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DA4-3BC5-42FA-A8ED-3FC9B271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BEBA-9F61-424F-BD9E-4A5FF105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277C-C301-4A06-86C0-7CA799D0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4D11-8100-4974-91C7-F65A82F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83C-ADD6-42F3-9B39-767ED588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6D62-7FB7-41CC-8421-04BEC22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0E70-65FC-44E1-A733-84B0873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A1D4-8636-4118-B5D3-10FB689F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780-71F8-4BE9-B85B-80FBB102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A014-CBA2-475E-A7B2-14F75E8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25EF-088A-4058-AD83-C402E6D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8B02-B321-4466-94EB-FC68072A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BE36-CDAC-4DF8-A304-39718981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4E76-BACF-40BF-82F9-8127B69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613-6CD6-465C-AE45-EECDE723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2D6-E4B2-4B31-B0B2-CFE7A899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656-CA00-4743-B2FB-3170948F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A4C-F4C4-4284-99AA-D2A538F6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31D-A3F1-4387-961C-76D70594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81A-2D85-4A94-8D69-3209549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901-A6E8-4BF4-88C4-921CBF8D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C773-5F60-4854-A9AF-6337D947CAE0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ABC2-EF80-4B2A-BE44-CD18286965FD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006633"/>
                </a:solidFill>
                <a:latin typeface="Garamond"/>
                <a:cs typeface="IranNastaliq"/>
              </a:rPr>
              <a:t>بسم الله الرحمن الرحیم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هُوَ الَّذِي بَعَثَ فِي الأمِّيِّينَ رَسُولا مِنْهُم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يَتْلُو عَلَيْهِمْ آيَاتِه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يُزَكِّيهِم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يُعَلِّمُهُمُ الْكِتَابَ وَالْحِكْمَة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إِنْ كَانُوا مِنْ قَبْلُ لَفِي ضَلالٍ مُبِينٍ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٢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آخَرِينَ مِنْهُمْ لَمَّا يَلْحَقُوا بِهِمْ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هُوَ الْعَزِيزُ الْحَكِيمُ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٣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ذَلِكَ فَضْلُ اللَّهِ يُؤْتِيهِ مَنْ يَشَاء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ذُو الْفَضْلِ الْعَظِيمِ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٤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جهت هدایتی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IranNastaliq"/>
                <a:cs typeface="IranNastaliq"/>
              </a:rPr>
              <a:t>خدای سبحان، مبعوث کننده رسولی</a:t>
            </a:r>
            <a:r>
              <a:rPr b="0" lang="fa-IR" sz="60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6000" spc="-1" strike="noStrike">
                <a:solidFill>
                  <a:srgbClr val="000000"/>
                </a:solidFill>
                <a:latin typeface="IranNastaliq"/>
                <a:ea typeface="IranNastaliq"/>
              </a:rPr>
              <a:t> در میان امیین و همه کسانی که به ایشان ملحق شوند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15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Yagut"/>
              </a:rPr>
              <a:t>به منظور تلاوت آیات وحی و تزکیه و تعلیم وحیان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یاق دوم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فضای سخن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وجود یهودیانی که به تورات مکلف شدند ولی به آن عمل نکردند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و در عین حال، مدعی دوستی انحصاری با خدا هست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به شدت دنیاگرا هست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مَثَلُ الَّذِينَ حُمِّلُوا التَّوْرَاةَ ثُمَّ لَمْ يَحْمِلُوهَ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كَمَثَلِ الْحِمَارِ يَحْمِلُ أَسْفَارً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بِئْسَ مَثَلُ الْقَوْمِ الَّذِينَ كَذَّبُوا بِآيَاتِ اللَّه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لا يَهْدِي الْقَوْمَ الظَّالِمِي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٥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قُلْ يَا أَيُّهَا الَّذِينَ هَادُوا إِنْ زَعَمْتُمْ أَنَّكُمْ أَوْلِيَاءُ لِلَّهِ مِنْ دُونِ النَّاس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 فَتَمَنَّوُا الْمَوْتَ إِنْ كُنْتُمْ صَادِقِي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٦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لا يَتَمَنَّوْنَهُ أَبَدًا بِمَا قَدَّمَتْ أَيْدِيهِم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 وَاللَّهُ عَلِيمٌ بِالظَّالِمِي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٧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قُلْ إِنَّ الْمَوْتَ الَّذِي تَفِرُّونَ مِنْه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فَإِنَّهُ مُلاقِيكُمْ ثُمَّ تُرَدُّونَ إِلَى عَالِمِ الْغَيْبِ وَالشَّهَادَة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فَيُنَبِّئُكُمْ بِمَا كُنْتُمْ تَعْمَل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٨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جهت هدایتی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 rtl="1">
              <a:lnSpc>
                <a:spcPct val="15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000000"/>
                </a:solidFill>
                <a:latin typeface="Arial"/>
                <a:cs typeface="IranNastaliq"/>
              </a:rPr>
              <a:t>افشاگری و رسواسازی تهدید آمیز خدا درباره یهودیان مدعی که به تورات عمل نکردند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Yagut"/>
              </a:rPr>
              <a:t>آنان که به تورات مکلف شدند ولی به آن عمل نکردند، همچون خرانی هستند که باری از کتاب بر دوش می کش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Yagut"/>
              </a:rPr>
              <a:t>ایشان دروغ گویانی ظالمند نه دوستان انحصاری خدا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Yagut"/>
              </a:rPr>
              <a:t>ایشان مرگ گریزانی فراری از ملاقات با خدا هست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یاق سوم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9600" spc="-1" strike="noStrike">
                <a:solidFill>
                  <a:srgbClr val="006633"/>
                </a:solidFill>
                <a:latin typeface="Garamond"/>
                <a:cs typeface="Mj_Egypt"/>
              </a:rPr>
              <a:t>تدبر در</a:t>
            </a: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0000"/>
                </a:solidFill>
                <a:latin typeface="Arial"/>
                <a:cs typeface="Mj_Moshfegh"/>
              </a:rPr>
              <a:t>سوره مبارکه جمع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فضای سخن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برخی از مؤمنان، لهو و تجارت را ترجیح دادن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و رسول خدا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  <a:ea typeface="B Yagut"/>
              </a:rPr>
              <a:t> را در نماز جمعه تنها گذاشتن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يَا أَيُّهَا الَّذِينَ آمَنُوا إِذَا نُودِيَ لِلصَّلاةِ مِنْ يَوْمِ الْجُمُعَة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فَاسْعَوْا إِلَى ذِكْرِ اللَّه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 وَذَرُوا الْبَيْع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 ذَلِكُمْ خَيْرٌ لَكُمْ إِنْ كُنْتُمْ تَعْلَم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فَإِذَا قُضِيَتِ الصَّلاة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فَانْتَشِرُوا فِي الأرْض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بْتَغُوا مِنْ فَضْلِ اللَّه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ذْكُرُوا اللَّهَ كَثِيرً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لَعَلَّكُمْ تُفْلِح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٠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إِذَا رَأَوْا تِجَارَةً أَوْ لَهْوً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انْفَضُّوا إِلَيْهَ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تَرَكُوكَ قَائِمًا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قُلْ مَا عِنْدَ اللَّهِ خَيْرٌ مِنَ اللَّهْوِ وَمِنَ التِّجَارَةِ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خَيْرُ الرَّازِقِي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١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جهت هدایتی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lnSpc>
                <a:spcPct val="150000"/>
              </a:lnSpc>
              <a:spcBef>
                <a:spcPts val="11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7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وصیه خدا به مؤمنان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495720" indent="-240480" algn="r" rtl="1">
              <a:lnSpc>
                <a:spcPct val="150000"/>
              </a:lnSpc>
              <a:spcBef>
                <a:spcPts val="11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یاد خدا و همراهی با رسول خدا</a:t>
            </a:r>
            <a:r>
              <a:rPr b="0" lang="fa-IR" sz="4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4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را بر منافع مادی مقدم بدارید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95720" indent="-240480" algn="r" rtl="1">
              <a:lnSpc>
                <a:spcPct val="150000"/>
              </a:lnSpc>
              <a:spcBef>
                <a:spcPts val="11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و کسب روزی را با یاد فراوان خدا همراه کنی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r" rtl="1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Yagut"/>
              </a:rPr>
              <a:t>مبادا با دیدن لهو و تجارت، رسول خدا</a:t>
            </a:r>
            <a:r>
              <a:rPr b="0" lang="fa-IR" sz="2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Yagut"/>
              </a:rPr>
              <a:t> را تنها بگذ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وره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فضای سخن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Yagut"/>
              </a:rPr>
              <a:t>رسول خد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Yagut"/>
              </a:rPr>
              <a:t> مبعوث شده و در مقام تلاوت وحی و تزکیه و تعلیم وحیانی امت است؛ اما خطر شانه خالی کردن از زیر بار تزکیه و تعلیم وحیانی، امت پیامبر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Yagut"/>
              </a:rPr>
              <a:t> را تهدید؛ و حسادت یهودیان مدعی بی عمل دنیاگرا، این تهدید را تشدید می کند و نشانه های واقعی بودن این تهدید، در میان مؤمنان بروز کرده است. برخی از ایشان، لهو و تجارت را بر همراهی با رسول خدا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2600" spc="-1" strike="noStrike">
                <a:solidFill>
                  <a:srgbClr val="000000"/>
                </a:solidFill>
                <a:latin typeface="Arial"/>
                <a:ea typeface="B Yagut"/>
              </a:rPr>
              <a:t> ترجیح داده ان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جهت هدایتی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50000"/>
              </a:lnSpc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مرام نامه بهره مندی از تزکیه و تعلیم وحیانی رسول خدا</a:t>
            </a:r>
            <a:r>
              <a:rPr b="0" lang="fa-IR" sz="5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5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Yagut"/>
              </a:rPr>
              <a:t>از زیر بار عمل به تعالیم وحی شانه خالی ن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5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Yagut"/>
              </a:rPr>
              <a:t>منافع مادی را بر یاد خدا و همراهی با رسول خد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Yagut"/>
              </a:rPr>
              <a:t> ترجیح نده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تشخیص سیاقها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یاق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1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. آیه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1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 تا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4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بِسْمِ اللَّهِ الرَّحْمَنِ الرَّحِيم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يُسَبِّحُ لِلَّهِ مَا فِي السَّمَاوَاتِ وَمَا فِي الأرْضِ الْمَلِكِ الْقُدُّوسِ الْعَزِيزِ الْحَكِيمِ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١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هُوَ الَّذِي بَعَثَ فِي الأمِّيِّينَ رَسُولا مِنْهُمْ يَتْلُو عَلَيْهِمْ آيَاتِهِ وَيُزَكِّيهِمْ وَيُعَلِّمُهُمُ الْكِتَابَ وَالْحِكْمَةَ وَإِنْ كَانُوا مِنْ قَبْلُ لَفِي ضَلالٍ مُبِينٍ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٢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وَآخَرِينَ مِنْهُمْ لَمَّا يَلْحَقُوا بِهِمْ وَهُوَ الْعَزِيزُ الْحَكِيمُ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٣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ذَلِكَ فَضْلُ اللَّهِ يُؤْتِيهِ مَنْ يَشَاءُ وَاللَّهُ ذُو الْفَضْلِ الْعَظِيمِ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٤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یاق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2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. آیه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5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 تا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8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مَثَلُ الَّذِينَ حُمِّلُوا التَّوْرَاةَ ثُمَّ لَمْ يَحْمِلُوهَا كَمَثَلِ الْحِمَارِ يَحْمِلُ أَسْفَارًا بِئْسَ مَثَلُ الْقَوْمِ الَّذِينَ كَذَّبُوا بِآيَاتِ اللَّهِ وَاللَّهُ لا يَهْدِي الْقَوْمَ الظَّالِمِينَ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٥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قُلْ يَا أَيُّهَا الَّذِينَ هَادُوا إِنْ زَعَمْتُمْ أَنَّكُمْ أَوْلِيَاءُ لِلَّهِ مِنْ دُونِ النَّاسِ فَتَمَنَّوُا الْمَوْتَ إِنْ كُنْتُمْ صَادِقِينَ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٦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وَلا يَتَمَنَّوْنَهُ أَبَدًا بِمَا قَدَّمَتْ أَيْدِيهِمْ وَاللَّهُ عَلِيمٌ بِالظَّالِمِينَ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٧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قُلْ إِنَّ الْمَوْتَ الَّذِي تَفِرُّونَ مِنْهُ فَإِنَّهُ مُلاقِيكُمْ ثُمَّ تُرَدُّونَ إِلَى عَالِمِ الْغَيْبِ وَالشَّهَادَةِ فَيُنَبِّئُكُمْ بِمَا كُنْتُمْ تَعْمَلُونَ (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me_quran"/>
              </a:rPr>
              <a:t>٨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یاق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3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. آیه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9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 تا </a:t>
            </a:r>
            <a:r>
              <a:rPr b="0" lang="fa-IR" sz="6600" spc="-1" strike="noStrike">
                <a:solidFill>
                  <a:srgbClr val="006633"/>
                </a:solidFill>
                <a:latin typeface="Garamond"/>
                <a:ea typeface="Mj_Egypt"/>
              </a:rPr>
              <a:t>11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يَا أَيُّهَا الَّذِينَ آمَنُوا إِذَا نُودِيَ لِلصَّلاةِ مِنْ يَوْمِ الْجُمُعَةِ فَاسْعَوْا إِلَى ذِكْرِ اللَّهِ وَذَرُوا الْبَيْعَ ذَلِكُمْ خَيْرٌ لَكُمْ إِنْ كُنْتُمْ تَعْلَم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٩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فَإِذَا قُضِيَتِ الصَّلاةُ فَانْتَشِرُوا فِي الأرْضِ وَابْتَغُوا مِنْ فَضْلِ اللَّهِ وَاذْكُرُوا اللَّهَ كَثِيرًا لَعَلَّكُمْ تُفْلِحُو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٠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وَإِذَا رَأَوْا تِجَارَةً أَوْ لَهْوًا انْفَضُّوا إِلَيْهَا وَتَرَكُوكَ قَائِمًا قُلْ مَا عِنْدَ اللَّهِ خَيْرٌ مِنَ اللَّهْوِ وَمِنَ التِّجَارَةِ وَاللَّهُ خَيْرُ الرَّازِقِينَ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١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یاق اول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فضای سخن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بعثت رسول خدا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تلاوت آیات وحی توسط آن حضرت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تزکیه و تعلیم وحیانی از جانب آن بزرگوار</a:t>
            </a:r>
            <a:r>
              <a:rPr b="0" lang="fa-IR" sz="3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000000"/>
                </a:solidFill>
                <a:latin typeface="Arial"/>
                <a:cs typeface="B Yagut"/>
              </a:rPr>
              <a:t>ناراحتی عده ای: چرا کسی از میان ما پیامبر خدا نشد؟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6633"/>
                </a:solidFill>
                <a:latin typeface="Garamond"/>
                <a:cs typeface="Mj_Egypt"/>
              </a:rPr>
              <a:t>ساختار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بِسْمِ اللَّهِ الرَّحْمَنِ الرَّحِيم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يُسَبِّحُ لِلَّهِ مَا فِي السَّمَاوَاتِ وَمَا فِي الأرْض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 الْمَلِكِ الْقُدُّوسِ الْعَزِيزِ الْحَكِيمِ (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me_quran"/>
              </a:rPr>
              <a:t>١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27:54Z</dcterms:created>
  <dc:creator>Ali</dc:creator>
  <dc:description/>
  <dc:language>en-US</dc:language>
  <cp:lastModifiedBy>hdq</cp:lastModifiedBy>
  <dcterms:modified xsi:type="dcterms:W3CDTF">2011-07-26T07:13:36Z</dcterms:modified>
  <cp:revision>28</cp:revision>
  <dc:subject/>
  <dc:title>بسم الله الرحمن الرحیم</dc:title>
</cp:coreProperties>
</file>